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008-F1EA-42C7-9EB1-3F946211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196-C042-4251-998B-49084ED3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8DE-4066-490F-8E5D-CCCB5237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61C-FAAC-4398-B569-A6104034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A3D-D704-48BD-9E3F-F85D91E3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91F-2E86-4724-AF68-FE924BD5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657-D1D7-4AB1-872F-C78674BB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F4C-E139-456F-9F87-99890FB7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23E-8803-4F89-B442-26FF7AA2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49E-010D-475A-8F8A-E7DD5C5B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F92-DB39-4E01-A83C-FAA70405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2CE-082A-40C3-A31A-10EE4A08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264A-4A15-4937-BCE7-824399EF8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1324031lPAzhHwvAo_ph" descr=""/>
          <p:cNvPicPr/>
          <p:nvPr/>
        </p:nvPicPr>
        <p:blipFill>
          <a:blip r:embed="rId2"/>
          <a:stretch/>
        </p:blipFill>
        <p:spPr>
          <a:xfrm>
            <a:off x="1676520" y="-114480"/>
            <a:ext cx="1127736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45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3520"/>
            <a:ext cx="1600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أعدوا طريق الرب واجعلوا سبله قويم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8759574HqrouBNtBi_ph" descr=""/>
          <p:cNvPicPr/>
          <p:nvPr/>
        </p:nvPicPr>
        <p:blipFill>
          <a:blip r:embed="rId2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53080" y="0"/>
            <a:ext cx="2362320" cy="79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سهروا توبوا صلوا وترقب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فتحوا الأبواب إرفعوا الأعتا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هِّلوا الدروب زينوا القلو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1324031lPAzhHwvAo_ph" descr=""/>
          <p:cNvPicPr/>
          <p:nvPr/>
        </p:nvPicPr>
        <p:blipFill>
          <a:blip r:embed="rId2"/>
          <a:stretch/>
        </p:blipFill>
        <p:spPr>
          <a:xfrm>
            <a:off x="1676520" y="-114480"/>
            <a:ext cx="11277360" cy="697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45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3520"/>
            <a:ext cx="152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أعدوا طريق الرب واجعلوا سبله قويم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1705873ayScpooCjj_ph" descr=""/>
          <p:cNvPicPr/>
          <p:nvPr/>
        </p:nvPicPr>
        <p:blipFill>
          <a:blip r:embed="rId1"/>
          <a:stretch/>
        </p:blipFill>
        <p:spPr>
          <a:xfrm>
            <a:off x="-304812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6920" y="228600"/>
            <a:ext cx="2286000" cy="80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و الآتي الآتي لا تنتظروا سِو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َذارِ يمرُّ دون أن تعرفو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كلُّ آتٍ دونَه مسيح دجا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1324031lPAzhHwvAo_ph" descr=""/>
          <p:cNvPicPr/>
          <p:nvPr/>
        </p:nvPicPr>
        <p:blipFill>
          <a:blip r:embed="rId2"/>
          <a:stretch/>
        </p:blipFill>
        <p:spPr>
          <a:xfrm>
            <a:off x="1676520" y="-114480"/>
            <a:ext cx="11277360" cy="6972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45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520"/>
            <a:ext cx="152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أعدوا طريق الرب واجعلوا سبله قويم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7:58:37Z</dcterms:created>
  <dc:creator>SUZANNE.MD</dc:creator>
  <dc:description/>
  <dc:language>en-US</dc:language>
  <cp:lastModifiedBy>USER</cp:lastModifiedBy>
  <dcterms:modified xsi:type="dcterms:W3CDTF">2002-12-16T14:43:32Z</dcterms:modified>
  <cp:revision>4</cp:revision>
  <dc:subject/>
  <dc:title>PowerPoint Presentation</dc:title>
</cp:coreProperties>
</file>